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727-00F2-417F-8F27-64BF3811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C29-B4E1-436A-99DD-6AAA3682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0EE-5725-4FB8-861E-D26CA9A3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2E6-B270-45AC-8ECB-ABFBB82B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74B4-A6D3-444B-BA67-4739FBCF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45AD-EB6B-45E6-84B0-903DF367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7B4F-DCA3-44CD-9DA5-B114CAD9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6CE-AD22-4B17-85B8-769433CA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E5B8-4D0C-4B5C-98CF-B4B6C6C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AB20-2D42-4A9C-84AA-BC5D66CE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A504-9D7A-44B5-B032-5AA12199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095-A683-4E0D-9452-D84F8434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67B-D1B2-4EEC-BD92-930D2B3C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C013-C0D5-411D-967C-319CB9C3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5A00-DB2D-4515-B1B8-7A74B7FC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2DFA-8C93-41E6-A6CC-81F0EB5C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38FD-6645-4674-A72B-288FFCA2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1E9-88A1-4B8E-B86F-A1906284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9A5-940A-424D-87ED-8A22D898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A77-B99C-4082-87A6-4DF4FF0E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5D3-2DCC-4254-96DC-F6AE2A45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917-278D-48D9-99C7-93E97436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0D5-5579-46B5-AD6C-3FD8089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5EB-7762-4C9E-90CC-7DB16E6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5153B1E-DD57-473D-BA21-AB3245635E7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035C987-63D3-4CFA-9641-E55073BBD6D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C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nging GDSII Lay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340640"/>
            <a:ext cx="3180960" cy="4704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068000" y="1340640"/>
            <a:ext cx="4733640" cy="469548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5BF8-20D4-4E1C-9A53-C21BEC2374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ings To Do N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apt memories to the 90nm technology and import them to the Milkyway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ceed with the physical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B2F3-18E8-4FB7-A340-5C67E11DCA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Tools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using IC Compiler – Problems and solu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to do n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8C85-9BAE-4966-8BA9-0B38D4000C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 Tools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Gen: This tool generates synthesizable RTL of a superscalar core based on user-specified parameter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Front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Back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Pipeline depths of canonical pipeline sta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Issue queue siz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: This tool estimates read/write delays, read/write energies, and area of user-specified multi-ported RAMs/CAMs. It can also generate layouts of desired RAMs/C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CB0F-A316-4D2F-A802-D81CA5C5A0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bGen-generated RTL is synthesiz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starting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nt-out the verification components to remove unsynthesizable verilog needed for simulation only: VPIs (the verilog/C++ co-simulation environment) and performance cou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FabMem to generate custom designs of these critical memory structures, including full layouts, SPICE netlists, and LEF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uring synthesis, remove the behavioral modules of the memory structures and constrain their input-port and output-port timing paths based on timing numbers from SPICE simul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place-and-route, use the LEFs to represent the memory structur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A0D-DFA1-418A-A1B7-47E354762C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100" spc="-1" strike="noStrike">
                <a:solidFill>
                  <a:srgbClr val="464653"/>
                </a:solidFill>
                <a:latin typeface="Bookman Old Style"/>
              </a:rPr>
              <a:t>Physical Design – Problems Encounter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C reports errors when importing netlist generated from synthes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rror message examples from IC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SRAM_4R8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CAM_4R4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rning message examples from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SRAM_4R8W' in 'InstructionBuffer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CAM_4R4W' in 'IssueQueue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use of the err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 corresponding memory cells in the Milkyway library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081B-67AF-43E8-84B1-24B43B4485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1 – Find memory instances from existing designs – OpenSPARC, ChipTop, Leon, and memories from SAED_EDK90n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memory instances from these existing designs do not match the memories used in FabScalar cores, which are mostly multi-ported memor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2 – Use memory blocks generated from the FabMem too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uses the FreePDK 45nm library which does not match the 90nm technology library used in ICC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is very difficult to change the FreePDK 45nm library to 90nm technology library in FabMe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3 – Change to the FreePDK 45nm library for the physical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ynthesis could be done using FreePDK. But the FreePDK 45nm library could not be utilized in ICC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AF7D-7F4F-463A-842E-25D7948B92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4 – Adapt the memory blocks generated from the FabMem tool to the 90nm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could generate layouts of memories, from which we can get the GDSII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adapt these layouts to the 90nm technology, we need to modify the GDSII files t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uble the size of each physical component in the layou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layer in the FreePDK library to these layers in the 90nm technology libra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52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ort these memory blocks to the Milkyway Library using the Milkyway Environment tool and the new GDSII memory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09BF-F822-4BE5-84ED-C8FF805FD5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ilkyway Environment is a standalone tool for preparing physical libraries from the layout data provided by an outside sour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43640" y="2565000"/>
            <a:ext cx="7056360" cy="3705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5DA1-5313-4E91-87C8-D027CC1E6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brary Preparation Flow in the 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979640" y="1196640"/>
            <a:ext cx="5045400" cy="51123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A843-ACD2-42D7-B335-B415827B18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764</TotalTime>
  <Application>LibreOffice/7.4.7.2$Linux_X86_64 LibreOffice_project/40$Build-2</Application>
  <AppVersion>15.0000</AppVersion>
  <Words>546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4-17T14:54:23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